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64887"/>
        <c:axId val="98548223"/>
      </c:barChart>
      <c:catAx>
        <c:axId val="99964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48223"/>
        <c:crosses val="autoZero"/>
        <c:auto val="1"/>
        <c:lblAlgn val="ctr"/>
        <c:lblOffset val="100"/>
        <c:noMultiLvlLbl val="0"/>
      </c:catAx>
      <c:valAx>
        <c:axId val="98548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64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864-54BF-47A2-A5F6-AE3214BF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56F-2124-4E5C-B89B-3FEFBD59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7A2-A6A3-4382-B403-AE3AF0E7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B3F-4B6C-445B-946B-84385D3E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4A4-18CA-4CE0-BF91-FA7A14CF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074-767A-4A7B-B337-14056C6A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C11-F98E-4DBB-B625-3BE19447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9D0-F735-44F8-A7F2-38B00DD0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FEB-78DA-45DE-BE8C-15B7B95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361-8558-4E89-B056-50549FF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B4B-40A3-47DE-B4D0-84CF57C9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026-76EE-40B6-A403-F171167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19A17-B203-4529-A7EC-E59C616BFF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