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61748"/>
        <c:axId val="38467214"/>
      </c:barChart>
      <c:catAx>
        <c:axId val="78461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67214"/>
        <c:crosses val="autoZero"/>
        <c:auto val="1"/>
        <c:lblAlgn val="ctr"/>
        <c:lblOffset val="100"/>
        <c:noMultiLvlLbl val="0"/>
      </c:catAx>
      <c:valAx>
        <c:axId val="38467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1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732-9551-43C2-8F41-BAA74011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F51-8558-4350-B945-7186D5A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EC7-EB2E-4C6B-ADF8-1C35C7F6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058-8204-4AFB-A6F5-1CE302A5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221-13F6-4F91-81C3-C353166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8D8-EB2B-411C-9DD1-2698C5F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B3F-3311-43B2-95A7-47CF0474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0F6-2D89-47E0-AAC4-3B3563E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62B-F860-4192-8640-643AC36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E52-39C9-4C4A-8B52-D487F6C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415-30AF-48E7-B7D2-4632832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173-A654-4BE0-84DB-D64A476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AD30-03E9-4E61-9021-340950378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