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1666470"/>
        <c:axId val="30093215"/>
      </c:barChart>
      <c:catAx>
        <c:axId val="2166647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093215"/>
        <c:crosses val="autoZero"/>
        <c:auto val="1"/>
        <c:lblAlgn val="ctr"/>
        <c:lblOffset val="100"/>
        <c:noMultiLvlLbl val="0"/>
      </c:catAx>
      <c:valAx>
        <c:axId val="3009321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66647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78DC0-53E1-4B6C-88B9-77682B8A9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1A36B-3674-4D79-BC5E-10CE97853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4E74F-925B-4834-8325-70E0F8770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9550A-77B4-47AC-84B7-F81AC4836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58C7D-4526-460F-845D-4385F02E6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ECB68-537C-4AE5-B96D-109CB055F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CED2F-DE6D-4E35-8C97-AC175D136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8C4DC-C0ED-4320-8D90-38CCF87FA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DDC35-44E6-4763-B954-84D60FA3F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D13FD-7007-421F-B16A-6ED71FEE9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CFD25-DBC8-4938-AD34-0D7BFA5B6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6F4AD-2321-4B04-924A-8CECB00CE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563605-B778-4DAB-8FE9-EEA54F7698B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