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3169"/>
        <c:axId val="17117556"/>
      </c:barChart>
      <c:catAx>
        <c:axId val="7073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7556"/>
        <c:crosses val="autoZero"/>
        <c:auto val="1"/>
        <c:lblAlgn val="ctr"/>
        <c:lblOffset val="100"/>
        <c:noMultiLvlLbl val="0"/>
      </c:catAx>
      <c:valAx>
        <c:axId val="17117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839-1E3D-4AFF-ADCB-367F4006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C86-FC88-4CFE-B661-F62CBE5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97A-D656-462A-A394-31333517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95A-B87F-407D-B88B-21A1C13F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8DB-BF78-4117-9CCA-1F217C0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912-05C9-4AD5-A5E1-70E7F6A0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765-B0F2-4837-8048-57E237A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5E4-A872-47E8-9B6A-891AA1A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B8A-2ADF-4C1E-8163-230B9ACC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D97-AA70-4FBE-8883-12D8F84E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813-415D-4E2E-ADBD-5A4C7AD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1E8-DC08-4459-910B-DD3F7E9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BA3C7-7AA7-4EF0-92F8-B87B786CD8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