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84240"/>
        <c:axId val="53202828"/>
      </c:barChart>
      <c:catAx>
        <c:axId val="81884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02828"/>
        <c:crosses val="autoZero"/>
        <c:auto val="1"/>
        <c:lblAlgn val="ctr"/>
        <c:lblOffset val="100"/>
        <c:noMultiLvlLbl val="0"/>
      </c:catAx>
      <c:valAx>
        <c:axId val="53202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84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C94-F8EF-456A-8FD7-18874002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548-CC29-4D61-AAA1-A1838503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B1A-9647-4D85-8B89-4ABAFDD7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E99-6486-4FF5-B840-FDA61A09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8A4-D335-455D-ACBD-52C00914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B6C-4938-437D-A2C3-EDD18020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644-63D1-47D5-A8C7-FD0DF587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D4E-1C3E-422B-8213-DD5EE20C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32C-7367-4A83-975D-6902522F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9F0-DACA-4160-B7C1-851FBF21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AB9-1667-469B-8364-88ACEC4B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6A7-9491-442C-B7DC-943743DA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28FAB-31FB-45A4-98AB-0DAD14759A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