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42728"/>
        <c:axId val="3632852"/>
      </c:barChart>
      <c:catAx>
        <c:axId val="99642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2852"/>
        <c:crosses val="autoZero"/>
        <c:auto val="1"/>
        <c:lblAlgn val="ctr"/>
        <c:lblOffset val="100"/>
        <c:noMultiLvlLbl val="0"/>
      </c:catAx>
      <c:valAx>
        <c:axId val="3632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2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464-49A5-4F2B-BDDE-BE598EB0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E34-4935-492B-A39D-F5210414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7DE-A1A4-4EFE-8586-55B75592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49A-035D-4D0C-86B6-3A941BF8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679-4B7A-4296-B0FB-685E6DB7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F50-31E0-4B29-8184-2F53F22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4C7-C8B3-44A7-A8B1-39A081B0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DF8-5C45-4B2C-B0C6-646ACA56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9F4-C3C4-4D4F-A6B0-C0CB18F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4D8-B0BF-43E5-88BA-D9E08173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110-9C31-4D36-B9B8-49C3686B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FB4-0C32-4825-B309-7AD943BF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806E2-1C4E-40D0-B9BD-569E1614FD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