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83495"/>
        <c:axId val="89025720"/>
      </c:barChart>
      <c:catAx>
        <c:axId val="24183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5720"/>
        <c:crosses val="autoZero"/>
        <c:auto val="1"/>
        <c:lblAlgn val="ctr"/>
        <c:lblOffset val="100"/>
        <c:noMultiLvlLbl val="0"/>
      </c:catAx>
      <c:valAx>
        <c:axId val="89025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3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97D-8DE8-4FC3-98C4-EE7E40D5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BFB-C7CE-40C2-B207-F264469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C0E-681F-4C9B-AF70-87E16066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209-6865-4F3B-B77B-20AD0F07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CDF-4236-43D9-B7E2-3BA054C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27F-8D06-421F-875E-44CD0C6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2B2-96BB-40F4-8C5E-19EFC517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654-E53B-414C-B4D4-A7C86F89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A72-B973-4447-8115-1A172AB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19F-5FEA-4447-BCD3-33B67405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B95-CB30-4AFF-BDEF-E8F2C90F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CAB-A781-441B-B77C-1F4C53DC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36D36-D5E7-483B-BB06-B6CC11119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