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15306"/>
        <c:axId val="32482316"/>
      </c:barChart>
      <c:catAx>
        <c:axId val="55715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2316"/>
        <c:crosses val="autoZero"/>
        <c:auto val="1"/>
        <c:lblAlgn val="ctr"/>
        <c:lblOffset val="100"/>
        <c:noMultiLvlLbl val="0"/>
      </c:catAx>
      <c:valAx>
        <c:axId val="32482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15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792-C799-4633-BF34-0F361816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9F6-9416-441F-B76C-D271C55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925-91C8-4380-AAA9-C72A00F3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984-B2CB-40C3-B4CC-1BC72C2B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3CB-791C-4B49-8AE5-EB3B209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CF4-4F79-4DA0-A55E-5EE351E7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143-8452-4D41-B01E-346DD7C3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EAA-DFF6-44A3-A429-95411522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792-189A-4964-B067-BB87FAD3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EBB-18AC-4D96-84CF-D6F8CBB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3E4-54B0-4E68-8A40-D3BD19BB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A8F-B873-4D1D-B34E-2FBC0B5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CD423-7432-4733-BB7B-FDF561CEAF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