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39248"/>
        <c:axId val="38176197"/>
      </c:barChart>
      <c:catAx>
        <c:axId val="77539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76197"/>
        <c:crosses val="autoZero"/>
        <c:auto val="1"/>
        <c:lblAlgn val="ctr"/>
        <c:lblOffset val="100"/>
        <c:noMultiLvlLbl val="0"/>
      </c:catAx>
      <c:valAx>
        <c:axId val="38176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39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162-918B-4538-A331-D16D5465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F08-2E2E-446F-B8A9-F6094E0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C0D-689E-41E1-B52B-8D0958E4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670-80AF-48B2-838B-D621F399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C5E-5212-48D2-BD1D-64F2BBB8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4E7-B6BD-4464-BAA2-914824B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43A-1947-4849-A72F-F1C6611B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189-23D1-4C70-A9D0-987542B6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33B-5A2D-4285-975B-74C9F1A0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35F-3101-404A-BA3F-5A0ECFFC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4C1-DFC7-4E9C-ADE5-BA3876B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FBF-B332-42E6-B802-67DFD62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F9C7B-1A47-4DDA-AD89-31BAAF62A2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