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93588"/>
        <c:axId val="39867908"/>
      </c:barChart>
      <c:catAx>
        <c:axId val="70593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7908"/>
        <c:crosses val="autoZero"/>
        <c:auto val="1"/>
        <c:lblAlgn val="ctr"/>
        <c:lblOffset val="100"/>
        <c:noMultiLvlLbl val="0"/>
      </c:catAx>
      <c:valAx>
        <c:axId val="39867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3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6A4-5530-411F-A227-BB1D277F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8AA-BAE4-49C9-BA6B-EE1633D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0C4-40A4-42C5-8F3B-AA8CD09C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F05-EFFF-4B5A-B4D5-52DA565C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2D7-3FEE-4B23-8038-571D4AAF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775-E4A8-4560-BCB8-066A360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151-DB98-4026-9B5A-BA7B6F22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7C2-9C7B-4F13-9ABF-CF91CCA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698-3102-4247-911C-BEE3BDAF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236-9191-4848-86C2-0054775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E5A-DF9A-4343-8041-39BF360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D43-47D1-4EC6-97AF-EA460FAE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4D9BF-A0F6-4947-BA0A-09975777BB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