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634878"/>
        <c:axId val="84977477"/>
      </c:barChart>
      <c:catAx>
        <c:axId val="636348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77477"/>
        <c:crosses val="autoZero"/>
        <c:auto val="1"/>
        <c:lblAlgn val="ctr"/>
        <c:lblOffset val="100"/>
        <c:noMultiLvlLbl val="0"/>
      </c:catAx>
      <c:valAx>
        <c:axId val="849774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348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9D4D-F755-4786-B8F3-D69F3686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CDFC-6064-4422-931C-AED2E03A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117F-9A0C-473C-9CD6-5D9F9B75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1695-8EC5-483E-9A09-CD2DA885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1D2F-CE3C-4C0A-B947-E6F897CB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14FF-42E3-4E21-9574-5F9B471D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AC10-1EFC-4C83-9B94-F99DE4BE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F5C0-2679-436E-A5F7-1B385B9E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ADFB-81F3-471E-B91C-15F86732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5507-3236-441C-AA99-AFC5878A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AD94-A55F-4A02-BC8D-5EDD178C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C206-2D55-42B1-994B-F4EC9B98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7AAFE-E08B-49C4-9E3F-9B425ED19B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